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29F5-0D0B-4C3F-A231-AC7A03F59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FDCA-4647-428D-815A-7581B21FD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300-6CA9-4542-9DCA-7DFAA4A1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801-16F5-4CDD-9D3B-FA5ADB94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075-A0AA-476D-BE9E-A6375E51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785-D675-4AC4-991B-7786C4CD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B99-8DE2-4270-B121-E0AEE6D8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015-0A67-4357-9038-4843A3B0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E75-0336-4175-BDF6-334E83A6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734-18A7-4944-B7E0-858539EC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452-90A4-492D-9043-3AF40CF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37B-CF11-4BF3-BF40-16E75E93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7D7-BD69-4853-B8A4-DE68E8C2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2E2-17B4-45F9-A7A3-61F9380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93CF-B784-4D69-9527-F58157CE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 mis amigas! Yo soy muy aburrido! Mis vecinos son muy enérgicos. Ellos 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uenas Dias ManiI! Que pasa mi pequeña nin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6:59Z</dcterms:modified>
  <cp:revision>104</cp:revision>
  <dc:subject/>
  <dc:title>Profile</dc:title>
</cp:coreProperties>
</file>